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A7B3-B329-48F7-B251-D43FA19CF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08E7-1684-4833-A0A0-0BB40247F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45C0-57D9-4FA0-85B2-94BB9205B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036F-873E-49B9-A054-B6A6D8410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FBB91-F691-4CD8-81CA-82DA51B97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6B8F7-E197-426C-B029-BB0C2C836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0F096-8BE6-4E96-B21E-D7DE9150A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BA4FF-2CD6-4D4A-A6DB-E8F1BE239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7A337-71E9-4B6F-B9EC-DA8D05D23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8B360-60B3-4E0B-B0FE-B7A29907F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238F6-BF27-4E18-81CD-2B8B47918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7A0E-2196-4907-8535-D04059E1A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860F4-107F-45D8-9482-A2C9DB66F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F834A-876B-43E5-91D2-9F38F5342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19BBD-F0D1-4EEC-832A-0ABC6D350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F7CCD-F31E-4FF4-A764-C24D3775A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AE63D-4524-4760-9C27-DAB38ACBC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89D1-DE66-4D7A-8277-81D563093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1A0E-B2BA-474E-8242-4DAA12619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0C23-EB16-4A43-B2D5-B6723252A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0025-FBB3-448A-B024-5697A42CD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86BF-C618-405E-A45C-937FF35B0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1EB7-ED61-4B58-B82E-F27DE2B3C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4145-5F3E-44C5-8FE4-D0BDB9182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8CA2E-1CF7-41E3-8573-D6BEB766C0BE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39A2C-08AE-478E-BF45-606EAD050904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99"/>
                </a:solidFill>
                <a:latin typeface="Arial"/>
              </a:rPr>
              <a:t>DOL</a:t>
            </a:r>
            <a:endParaRPr b="0" lang="en-US" sz="7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4 to 8 seconds after you swallow your food is all ready in you’re stomach, it purees your food quick and efficient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orrected Sentenc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Verdana"/>
              </a:rPr>
              <a:t>Four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to </a:t>
            </a:r>
            <a:r>
              <a:rPr b="0" lang="en-US" sz="3200" spc="-1" strike="noStrike">
                <a:solidFill>
                  <a:srgbClr val="ff5050"/>
                </a:solidFill>
                <a:latin typeface="Verdana"/>
              </a:rPr>
              <a:t>eigh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seconds after you swallow</a:t>
            </a:r>
            <a:r>
              <a:rPr b="0" lang="en-US" sz="3200" spc="-1" strike="noStrike">
                <a:solidFill>
                  <a:srgbClr val="ff5050"/>
                </a:solidFill>
                <a:latin typeface="Verdana"/>
              </a:rPr>
              <a:t>,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your food is </a:t>
            </a:r>
            <a:r>
              <a:rPr b="0" lang="en-US" sz="3200" spc="-1" strike="noStrike">
                <a:solidFill>
                  <a:srgbClr val="ff5050"/>
                </a:solidFill>
                <a:latin typeface="Verdana"/>
              </a:rPr>
              <a:t>already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in </a:t>
            </a:r>
            <a:r>
              <a:rPr b="0" lang="en-US" sz="3200" spc="-1" strike="noStrike">
                <a:solidFill>
                  <a:srgbClr val="ff5050"/>
                </a:solidFill>
                <a:latin typeface="Verdana"/>
              </a:rPr>
              <a:t>your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stomach</a:t>
            </a:r>
            <a:r>
              <a:rPr b="0" lang="en-US" sz="3200" spc="-1" strike="noStrike">
                <a:solidFill>
                  <a:srgbClr val="ff5050"/>
                </a:solidFill>
                <a:latin typeface="Verdana"/>
              </a:rPr>
              <a:t>;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the stomach purees your food </a:t>
            </a:r>
            <a:r>
              <a:rPr b="0" lang="en-US" sz="3200" spc="-1" strike="noStrike">
                <a:solidFill>
                  <a:srgbClr val="ff5050"/>
                </a:solidFill>
                <a:latin typeface="Verdana"/>
              </a:rPr>
              <a:t>quickly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and </a:t>
            </a:r>
            <a:r>
              <a:rPr b="0" lang="en-US" sz="3200" spc="-1" strike="noStrike">
                <a:solidFill>
                  <a:srgbClr val="ff5050"/>
                </a:solidFill>
                <a:latin typeface="Verdana"/>
              </a:rPr>
              <a:t>efficiently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Focused Freewrit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5 minut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ould you rather find true lov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nd 10 million dollars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Vocabulary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o vocabulary square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296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Chapter 4-answer the following questions.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Where does Scout receive the majority of her education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What does Scout find in the tree in the Radley house when she is alone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What do Jem and Scout find in the hiding place together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How do you think the objects got in the tree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How did the children amuse themselves during Dill’s second summer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o you think their parents should have allowed them to play this game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Mood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ood is the emotions that you feel while you are reading. Some literature makes you feel sad, others joyful, still others, angry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ook at handou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Mood Cont.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ook at the following pages in the novel and describe what the mood is and what words the author uses to show this moo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Writing Activity-Homework, due Friday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otice how Harper Lee uses language to intensify the mood of terror and suspense as Jem trespasses on the Radley property. Describe a time when you were very frightened, or make up a scary situation. Use language that evokes all of your senses to recreat the feeling of terror that you experienced. Make the reader scared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0T17:58:15Z</dcterms:created>
  <dc:creator>rebecca</dc:creator>
  <dc:description/>
  <dc:language>en-US</dc:language>
  <cp:lastModifiedBy>Angie</cp:lastModifiedBy>
  <dcterms:modified xsi:type="dcterms:W3CDTF">2009-01-21T06:29:10Z</dcterms:modified>
  <cp:revision>3</cp:revision>
  <dc:subject/>
  <dc:title>DOL</dc:title>
</cp:coreProperties>
</file>